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99A-F22C-4195-8B00-9EAC3F1D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933-29AA-49AA-99D0-F183B85B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E63-DBA0-48E4-AF2A-052710E8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70E-04D0-4A82-AC82-C0A1199A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D2C9-F0A7-4CDD-A35E-8406FF5C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F065-D85C-451B-8054-DB0B6E8D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C0DC-0E34-40AF-B40F-0A43CDF6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2059-27D2-40C5-9F8F-C82C4EB2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0718-6C77-4AE9-945F-52871D97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9544-6844-4B8E-8397-DC4C56C0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B450-29B4-4B7B-A314-863D151F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60A3-A9C7-4C7A-B938-8F2B21D5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DFDB-10EB-49EA-9369-90349351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4600-4A8A-44AE-B625-15A40C6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4615-EC15-44D6-AA02-7A51B817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1AE5-AE05-4F5E-8427-6A25C1A4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132D-3C72-43D4-8EB3-195B7E25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427-F05B-4148-B376-95657F27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B0C-8C18-48B9-AA1E-78779FDF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3DF-2777-447E-BCE8-64B325C5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200-48CC-4EC9-9261-DE569CAA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4DD-CE16-44F0-BE81-E4DE6C9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719-4525-48C0-9E2D-C66E8EDC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856-BAAB-4B3D-8C84-606A2150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CB3E-6B0D-4EFF-A6ED-0E2688A529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A333-D1FF-4E2B-BBEF-12775E24C0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неклассное занятие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 3 Б класс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«Птичья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ярмарк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валева Ди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4" descr="кормушка.JPG"/>
          <p:cNvPicPr/>
          <p:nvPr/>
        </p:nvPicPr>
        <p:blipFill>
          <a:blip r:embed="rId1"/>
          <a:stretch/>
        </p:blipFill>
        <p:spPr>
          <a:xfrm>
            <a:off x="2357280" y="1500120"/>
            <a:ext cx="4786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ургина Викто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Рисунок 5" descr="PIC_3267.JPG"/>
          <p:cNvPicPr/>
          <p:nvPr/>
        </p:nvPicPr>
        <p:blipFill>
          <a:blip r:embed="rId1"/>
          <a:stretch/>
        </p:blipFill>
        <p:spPr>
          <a:xfrm>
            <a:off x="1143000" y="1214280"/>
            <a:ext cx="728676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114_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57120" y="13568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e6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e6b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НЕ РАЗРУШАЙТЕ ПТИЧЬИ ГНЁЗ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2. НЕ ЗАБЫВЙТЕ ПОДКАРМЛИВАТЬ ПТИЦ ЗИМО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3.  РАЗВЕШИВАЙТЕ КОРМУШ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В ЗАЩИЩЁННЫХ ОТ ВЕТРА МЕС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4. БЕРЕГИТЕ ЛЕС ОТ ОГНЯ! ОН - НАШ ДО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лагодарность пти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8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04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L4GQkFjbSF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67173752_0_7612_f4ef5ea_XL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за  вним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снег в лесу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9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a7c6daa163a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снег в лесу 1"/>
          <p:cNvPicPr/>
          <p:nvPr/>
        </p:nvPicPr>
        <p:blipFill>
          <a:blip r:embed="rId3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6" descr="0_72757_3f9c55_XL"/>
          <p:cNvPicPr/>
          <p:nvPr/>
        </p:nvPicPr>
        <p:blipFill>
          <a:blip r:embed="rId1"/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х птиц называю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имующи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ех, которые зимуют у на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ех, которые зимуют на юг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ех, которые живут на юг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му перелётные птиц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летают на юг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ора выводить птенц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холод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голод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имовать у нас остаютс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тицы, которые питаютс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летающими насекомыми и червя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семенами растений и   личинками насеком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рыбой и лягушк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зимой птицам труднее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ене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хол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гол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недостаток в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ельков Андр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Рисунок 5" descr="кормушка - копия.JPG"/>
          <p:cNvPicPr/>
          <p:nvPr/>
        </p:nvPicPr>
        <p:blipFill>
          <a:blip r:embed="rId1"/>
          <a:stretch/>
        </p:blipFill>
        <p:spPr>
          <a:xfrm>
            <a:off x="1476360" y="1547640"/>
            <a:ext cx="604836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Харина Дарь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5" descr="кормушка - копия (2).JPG"/>
          <p:cNvPicPr/>
          <p:nvPr/>
        </p:nvPicPr>
        <p:blipFill>
          <a:blip r:embed="rId1"/>
          <a:stretch/>
        </p:blipFill>
        <p:spPr>
          <a:xfrm>
            <a:off x="2357280" y="1163520"/>
            <a:ext cx="58150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5:56:53Z</dcterms:created>
  <dc:creator>Марина</dc:creator>
  <dc:description/>
  <dc:language>en-US</dc:language>
  <cp:lastModifiedBy>МЕТОДИЧЕСКИЙ КАБИНЕТ</cp:lastModifiedBy>
  <dcterms:modified xsi:type="dcterms:W3CDTF">2018-01-11T03:52:33Z</dcterms:modified>
  <cp:revision>18</cp:revision>
  <dc:subject/>
  <dc:title>Внеклассное занятие в 3 а классе</dc:title>
</cp:coreProperties>
</file>